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DC0B-52AE-46A4-9352-155F0109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0BE7-00EB-473B-A6C7-DB306CFF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C8B5C-4567-48DE-95FB-F28F9B1F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4A3E-A6EB-4774-A556-FA2B8A65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7D0E-2895-41AE-9EAA-14443902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B460-3B88-49F5-A2AB-19F20169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8AB0-563A-46C4-92A3-AD57C3B3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7FDC-0372-40F0-A364-5FF454C6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793B-3A95-4CCF-9350-8AB99C0E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B68A-E7EC-41B3-85D9-9AACECD2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BACD-275A-4D04-BB7A-58872D1B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463A-A0DB-4CEB-85C4-76C8BE64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EED4-ECFC-4565-A2A1-F584FBD0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5C62-E33E-468F-86ED-957DB3DA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1311-0B8E-414F-BD04-5BD31F71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696B-A611-4781-8DEB-FD6038EA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C7AB-6E8E-4004-A587-FA3A7B0C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4A8C-D859-421A-B60A-A6B3C386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CE3E-CC17-406C-82C1-AE39DE38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40B8-96BE-4B6D-9746-D3BF77BC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9626-452B-44FB-B94A-3B1027F6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1051-CF83-45C8-BF19-CECB37C6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A3D0-D6C9-444C-9337-2CAF976E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19FE-5EA7-43B6-AF51-1A3BFD96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D971-7405-417C-8370-22F13D5DC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FB8D-D3EA-47F0-ACF6-0E986C319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Crop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p Risk Plans (G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ke APH, but indemnities are paid based on county yields, not farm yiel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P is less expensive and removes moral haz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P protection is less aligned with business risks of farm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vestock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vestock Gross Margin (LG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ttle, Dairy, Sw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difference between market price for outputs and fe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quantity or quality cover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ains a premium subsidy, unlike a futures hed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vestock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vestock Risk Protection (L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ailable for feeder cattle, fed cattle, lamb, &amp; sw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only against declines in market pr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eder cattle prices are drawn from C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s use USDA-AMS reports for pric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le Farm Revenue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justed Gross Revenue (AG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farmer’s Schedule F revenue for production not covered by other insur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quality &amp; quantity as well as pr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vernment Programs to Manage Ris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are the ‘farm programs’ that most refer 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programs are usually costless to beneficiaries, and often have few if any eligibility require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ct Payments (D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iginally known as the Agricultural Market Transition Payments, and were compensation for ending of farm programs in 1996 Farm Bil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Ps are made based on historical acreage allocations and yields, not on current practices (‘decoupled’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 for land used for fruit and vegetable production, on which DPs are not pai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fully WTO compliant as they are minimally trade (i.e. production) distor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an Deficiency Payments (LDP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n indirect price floor to covered crop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DPs are highly distorting instruments, as they blunt producer price sign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ce 2007, most prices have been far above LDP price guarantees, so they have had no effe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ter Cyclical Payments (CCP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ed in 2002 Farm Bi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lac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d hoc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aster assistance to farmers in wake of late-90s Asian Financial Cri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payments of portion of difference between a target price set above cost of production and actual market pr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s are decoupled for WTO compli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erage Crop Revenue Election (AC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ed in 2008 Food, Conservation and Energy A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risk of systematic, multi-year declines in dema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s made based on difference between target revenue (product of state yield and 5 year Olympic average of prices) and product of national price and state yiel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iry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k Income Loss Con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s based on difference between milk prices and a reference feed r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rectly reduces profit volati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s incentives to adjust operations in response to changing market condi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s are set in statute, so cannot change with market con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15: The Policy of Risk Management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thew C. Robe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et-Based Instru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and options have long been available to manage price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available for major crops/livestock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often used directly by farmers, but very often by processors and intermedia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tures Contr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contracts are the oldest risk management instru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present, futures only offer ability to manage price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y risk contracts (Iowa yield) did not la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cannot manage quality risk, ei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h Contr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sh contracts are contracts directly between producers and consumers or processo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in producers have many cash contract options, even other risk management tools ‘wrapped’ into cash contr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dge-to-arrive contr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price contr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h Contr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cting has become very common in pork and poultry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rms are highly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re in cattle due to high capital costs &amp; long production cy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vestock production contracts are very contentio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later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rrent Controvers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 Impact of Spec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ergy/Agricultural Price Corre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rgence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ct Pork and Poultry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er Ownership of Catt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vernment Program Eligibility and Planting Restri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has been extensive attention to effects of speculation on price levels in commodity markets, and the extent to which speculation drove commodity price spike in 2006-2008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ters and White typify speculation conc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nders, Irwin &amp; Merrin don’t find evidence of a speculative bub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theless, Dodd-Frank orders CFTC to pass and enforce position limits on speculato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rrelation of Energy and Ag Pr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s in biofuels production have increased correlation between agricultural and energy marke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rgy markets have traditionally been more volati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e end of 2011, two primary pieces of biofuels policy expired: Volumetric Ethanol Excise Tax Credit, and the tariff on imported ethan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vergence Probl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006, CBOT Wheat futures stopp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ve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onvergenc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curs when the difference between the cash and futures prices falls to zero at the delivery point when futures expi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convergence calls into question the ability of the futures contract to reflect physical market fundamentals—it is a sign that needed arbitrage is not occurr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007 &amp; 2008, similar behavior occurred in CBOT Corn and Soybean fu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vergence Probl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BOT wheat contract has been modified twice in order to restore converg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2009, more areas became deliver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2011, Variable Storage Rate was introduced in which the maximum storage charged by elevators was allowed to adjust to market condi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2011, KCBOT wheat began to exhibit noncoverg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cker Ownership of Catt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ead of cash purchases of fed cattle, some packers began to purchase feeder cattle and contract their feed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ers claim reduced risk and increased efficienc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edlots believe this creates market power for pack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isk is randomness i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Quant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at matter to those invol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ost firms and individuals are risk-averse: they prefer less risk to m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anting Restrictions and Program Eligi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oupled payments—payments that are not tied to current production decisions—are permissible under WTO ru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ct Payments are the primary form of decoupled pay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the 1996, 2002, and 2008 do not allow DPs to be paid on land currently used for fruit or vegetable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portunities for Improved Collabo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ing Crop Insur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ifting Risk to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Understanding of Success/Failure of Fu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Understanding of Futures Delivery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ifferentiates food production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oods degrade with stor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y risk is often substa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y risk is often highly correlated among produc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is inela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ption is constant, but production is annual for many foodstuff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ifferentiates food production? (cont’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ity of expenditures are early in production cycle. Harvest occurs weeks or months l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can be a vector of pathogen transmis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til Recently, Most Risk Management was Parti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ls existed to manage price ri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ls existed to manage production ri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firms care abou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nue=Price*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for many commodities, the correlation is negative, so managing with only price &amp; production tools leads to costly overpro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icultural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sk Management Agency is ultimate guarantor of most Agricultural Insur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of 2012, more than 100 commodities cove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op Insuranc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ual Production History (AP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itional ‘yield’ insurance, payments made at an RMA-determined reference pr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ield Protection (Y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milar to APH, but the price is set based on current futures pr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op Insurance (2)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nue Protection (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vers price*yield, but is therefore more expensiv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rmers can insure at the ‘Enterprise’ (whole farm) level instead of the ‘Unit’ (field or sub-farm) level to reduce premium cos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0T21:28:16Z</dcterms:modified>
  <cp:revision>34</cp:revision>
  <dc:subject/>
  <dc:title>U.S. Policies Affecting Food and Agricultural Marketing</dc:title>
</cp:coreProperties>
</file>